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797C2-4A6B-4582-B4D3-49F4BA308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3624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1E68B-A001-4907-B87C-47F2A1BA0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3624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EF863-5DD9-4254-A9EA-702DBA196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3624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C8F43-B257-4CBE-BA36-3FEAF7AD6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3624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8E950-B452-45F0-8217-CC7537979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3624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410FC-F097-40CA-AC95-07C7C4737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3624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F7398-2BE4-475B-99EC-634F8DC47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3624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292DC-E528-466B-AB63-AA33DAE2F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3624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87333-1E92-44C2-8610-38412B30D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3624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80EE9-FFE5-4768-9D3E-66EB287A6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3624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D00D7-C6D2-438A-8AB0-71FDF5F8E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3624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C9187-3BF3-432E-BF7F-61B4ED8FD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3624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67080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67080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67080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1D4062-BE3B-4FBC-84C7-E4B8D46E54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perlmeme.org/tutorials/connect_to_db.html" TargetMode="External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3280" y="336600"/>
            <a:ext cx="9070920" cy="64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l Tutor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r. Charles Cavanau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-14-20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ttps://tigerbytes2.lsu.edu/users/ccav/perltut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2920" y="33660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Times New Roman"/>
              </a:rPr>
              <a:t>Variable Scoping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y $var = “value”; #creates block-scoped vari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$v2 = “whatever”; #creates global vari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y $x = 2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( true ) {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y $x = 1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nt $x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2920" y="33660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Times New Roman"/>
              </a:rPr>
              <a:t>Variable Scoping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y $var = “value”; #creates block-scoped vari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$v2 = “whatever”; #creates global vari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y $x = 2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( true ) {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$x = 1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nt $x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02920" y="33660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Times New Roman"/>
              </a:rPr>
              <a:t>Conditionals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80"/>
              </a:buClr>
              <a:buSzPct val="45000"/>
              <a:buFont typeface="Symbol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( condition )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elsif ( other condition )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else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80"/>
              </a:buClr>
              <a:buSzPct val="45000"/>
              <a:buFont typeface="Symbol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less ( condition ) { ... } # if ( !condition ) { ... 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2920" y="33660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Times New Roman"/>
              </a:rPr>
              <a:t>Looping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80"/>
              </a:buClr>
              <a:buSzPct val="45000"/>
              <a:buFont typeface="Symbol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ile ( condition )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80"/>
              </a:buClr>
              <a:buSzPct val="45000"/>
              <a:buFont typeface="Symbol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til ( condition ) { ... } # while ( !condition ) { ... 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80"/>
              </a:buClr>
              <a:buSzPct val="45000"/>
              <a:buFont typeface="Symbol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( initialize ; test ; increment ) { ... }# similar to 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(my $i = 0; $i &lt; 10; $i++) { print $i.“\n”; 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80"/>
              </a:buClr>
              <a:buSzPct val="45000"/>
              <a:buFont typeface="Symbol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each: see next sl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2920" y="33660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Times New Roman"/>
              </a:rPr>
              <a:t>Looping: foreach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5504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4273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y @array = (“cherry”, “strawberry”, “pretzel”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273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each (@array)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273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nt “$_\n”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273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0080"/>
              </a:buClr>
              <a:buSzPct val="45000"/>
              <a:buFont typeface="Symbol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$_ is the current value or l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0080"/>
              </a:buClr>
              <a:buSzPct val="45000"/>
              <a:buFont typeface="Symbol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y @array=(1,2,3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273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each my $n (@array) { print $n."\n" 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273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273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2920" y="33660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Times New Roman"/>
              </a:rPr>
              <a:t>foreach with Hashes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y %hash=(a=&gt;1,b=&gt;2,c=&gt;3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each my $key (keys %hash)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nt $hash{$key}."\n"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80"/>
              </a:buClr>
              <a:buSzPct val="45000"/>
              <a:buFont typeface="Symbol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shes are not sorted in any particular order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2920" y="33660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Times New Roman"/>
              </a:rPr>
              <a:t>Files &amp; I/O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5143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0080"/>
              </a:buClr>
              <a:buSzPct val="45000"/>
              <a:buFont typeface="Symbol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y $filename = “input.txt”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273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en(my $filehandle, “&lt;”, $filename) or die $!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0080"/>
              </a:buClr>
              <a:buSzPct val="45000"/>
              <a:buFont typeface="Symbol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y $filename = "iris.dat"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273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en(my $filehandle, "&lt;", $filename) or die "$!: $filename"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273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such file or directory: iris.dat at - line 2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0080"/>
              </a:buClr>
              <a:buSzPct val="45000"/>
              <a:buFont typeface="Symbol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y $line = &lt;$filehandle&gt;; #reads a l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0080"/>
              </a:buClr>
              <a:buSzPct val="45000"/>
              <a:buFont typeface="Symbol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y @lines = &lt;$filehandle&gt;; #reads all lines into arr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02920" y="33660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Times New Roman"/>
              </a:rPr>
              <a:t>Typical Line-by-Line Reading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80"/>
              </a:buClr>
              <a:buSzPct val="45000"/>
              <a:buFont typeface="Symbol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y $lines = 0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ile (&lt;$filehandle&gt;)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$lines++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nt $lines. “:” . $_ . “\n”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80"/>
              </a:buClr>
              <a:buSzPct val="45000"/>
              <a:buFont typeface="Symbol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ose file when finished (best practice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ose $filehandle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02920" y="33660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Times New Roman"/>
              </a:rPr>
              <a:t>Output or Append to File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80"/>
              </a:buClr>
              <a:buSzPct val="45000"/>
              <a:buFont typeface="Symbol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en(my $filehandle, “&gt;”, “out.txt”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nt $filehandle “This is a line.\n”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nt $filehandle “This is another line.\n”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ose $filehandle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80"/>
              </a:buClr>
              <a:buSzPct val="45000"/>
              <a:buFont typeface="Symbol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en(my $filehandle, “&gt;&gt;”, “out.txt”); #appe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nt $filehandle “line 3\n”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ose $filehandle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2920" y="33660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Times New Roman"/>
              </a:rPr>
              <a:t>Regular Expressions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80"/>
              </a:buClr>
              <a:buSzPct val="45000"/>
              <a:buFont typeface="Symbol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jor part of learning Perl. See perlrequick for hel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80"/>
              </a:buClr>
              <a:buSzPct val="45000"/>
              <a:buFont typeface="Symbol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ile(&lt;$in&gt;)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(/foo/) { ... } # true if $_ contains “foo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($_ =~ /foo/) { ... } # same (match operato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$new =~ s/foo/bar/; # replace 1</a:t>
            </a:r>
            <a:r>
              <a:rPr b="0" lang="en-US" sz="3200" spc="-1" strike="noStrike" baseline="33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“foo” with “bar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$new =~ s/foo/bar/g; # replace all “foo” w/ “bar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02920" y="33660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Times New Roman"/>
              </a:rPr>
              <a:t>Overview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80"/>
              </a:buClr>
              <a:buSzPct val="45000"/>
              <a:buFont typeface="Symbol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sic syntax and semant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80"/>
              </a:buClr>
              <a:buSzPct val="45000"/>
              <a:buFont typeface="Symbol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arching and replacing tex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80"/>
              </a:buClr>
              <a:buSzPct val="45000"/>
              <a:buFont typeface="Symbol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king with CSV fi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80"/>
              </a:buClr>
              <a:buSzPct val="45000"/>
              <a:buFont typeface="Symbol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essing databa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2920" y="33660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Times New Roman"/>
              </a:rPr>
              <a:t>Special Characters in Regular Expressions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503280" y="1768320"/>
          <a:ext cx="9070920" cy="3149280"/>
        </p:xfrm>
        <a:graphic>
          <a:graphicData uri="http://schemas.openxmlformats.org/drawingml/2006/table">
            <a:tbl>
              <a:tblPr/>
              <a:tblGrid>
                <a:gridCol w="4535280"/>
                <a:gridCol w="4535640"/>
              </a:tblGrid>
              <a:tr h="36468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racter(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468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y single charac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36468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\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whitespace charac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6468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\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non-whitespace charac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36468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\d or [0-9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dig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6468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\w or [a-zA-Z0-9_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word charac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36468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\D or [^0-9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non-dig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6468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-\(\)0-9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hyphen, (, ), or dig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384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.. and many oth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02920" y="33660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Times New Roman"/>
              </a:rPr>
              <a:t>Quantifiers in Regular Expressions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503280" y="1768320"/>
          <a:ext cx="9070920" cy="3016080"/>
        </p:xfrm>
        <a:graphic>
          <a:graphicData uri="http://schemas.openxmlformats.org/drawingml/2006/table">
            <a:tbl>
              <a:tblPr/>
              <a:tblGrid>
                <a:gridCol w="4535280"/>
                <a:gridCol w="4535640"/>
              </a:tblGrid>
              <a:tr h="43020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antifi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4309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ero or more of what's before 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4305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 least one of what's before 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43020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 most one of what's before 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4305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{3}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actly three of what's before {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4305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{3,6}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ree to six of what's before {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43308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{3,}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 least three of what's before {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82" name=""/>
          <p:cNvGraphicFramePr/>
          <p:nvPr/>
        </p:nvGraphicFramePr>
        <p:xfrm>
          <a:off x="2638440" y="5299200"/>
          <a:ext cx="5075280" cy="1048680"/>
        </p:xfrm>
        <a:graphic>
          <a:graphicData uri="http://schemas.openxmlformats.org/drawingml/2006/table">
            <a:tbl>
              <a:tblPr/>
              <a:tblGrid>
                <a:gridCol w="2537640"/>
                <a:gridCol w="2537640"/>
              </a:tblGrid>
              <a:tr h="36468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sitional Specifi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468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^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tch at start of str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36468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tch at end of str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2920" y="33660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80"/>
              </a:buClr>
              <a:buSzPct val="45000"/>
              <a:buFont typeface="Symbol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nt non-blank lines read from STDI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ile (&lt;&gt;)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xt if /^$/; # continue to next iteration if blan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nt; # prints $_ by defaul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2920" y="33660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Times New Roman"/>
              </a:rPr>
              <a:t>Simple Parsing with Regular Expressions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29920" y="1599840"/>
            <a:ext cx="9070920" cy="6134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80"/>
              </a:buClr>
              <a:buSzPct val="45000"/>
              <a:buFont typeface="Symbol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entheses capture matching parts of regex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80"/>
              </a:buClr>
              <a:buSzPct val="45000"/>
              <a:buFont typeface="Symbol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what's captured with $1, $2,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80"/>
              </a:buClr>
              <a:buSzPct val="45000"/>
              <a:buFont typeface="Symbol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($email =~ /([^@]+)@(.+)/)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nt “username = $1\n”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nt “hostname = $2\n”;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80"/>
              </a:buClr>
              <a:buSzPct val="45000"/>
              <a:buFont typeface="Symbol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$time =~ /(\d\d):(\d\d):(\d\d)/; # match hh:mm: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$hours = $1; $minutes = $2; $seconds = $3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80"/>
              </a:buClr>
              <a:buSzPct val="45000"/>
              <a:buFont typeface="Symbol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$hours, $minutes, $seconds) =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$time =~ /(\d\d):(\d\d):(\d\d)/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2920" y="33660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Times New Roman"/>
              </a:rPr>
              <a:t>Subroutines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80"/>
              </a:buClr>
              <a:buSzPct val="45000"/>
              <a:buFont typeface="Symbol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b square { # args are in @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y $num = shif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y $result = $num * $num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turn $resul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80"/>
              </a:buClr>
              <a:buSzPct val="45000"/>
              <a:buFont typeface="Symbol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ag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$sq = square(8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02920" y="33660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Times New Roman"/>
              </a:rPr>
              <a:t>Subroutines with Multiple Arguments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80"/>
              </a:buClr>
              <a:buSzPct val="45000"/>
              <a:buFont typeface="Symbol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b printmulti { # args are in @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y ($string, $times) = @_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(my $i=0; $i&lt;$times; $i++)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nt $string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80"/>
              </a:buClr>
              <a:buSzPct val="45000"/>
              <a:buFont typeface="Symbol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age: printmulti “*”, 8; #or printmulti (“*”, 8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02920" y="33660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Times New Roman"/>
              </a:rPr>
              <a:t>Modules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80"/>
              </a:buClr>
              <a:buSzPct val="45000"/>
              <a:buFont typeface="Symbol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 functionality to Per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80"/>
              </a:buClr>
              <a:buSzPct val="45000"/>
              <a:buFont typeface="Symbol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lp on a module: perldoc Module::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: perldoc Text::CS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80"/>
              </a:buClr>
              <a:buSzPct val="45000"/>
              <a:buFont typeface="Symbol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talling a modu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l -MCPAN -e 'install Module::Name'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80"/>
              </a:buClr>
              <a:buSzPct val="45000"/>
              <a:buFont typeface="Symbol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other 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st do this: cpan App::cpanmin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eafter: cpanm Module::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2920" y="33660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Times New Roman"/>
              </a:rPr>
              <a:t>Using Modules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80"/>
              </a:buClr>
              <a:buSzPct val="45000"/>
              <a:buFont typeface="Symbol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Perl scrip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Module::Name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80"/>
              </a:buClr>
              <a:buSzPct val="45000"/>
              <a:buFont typeface="Symbol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Text::CSV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2920" y="33660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Times New Roman"/>
              </a:rPr>
              <a:t>Searching and Replacing in Files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5300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0080"/>
              </a:buClr>
              <a:buSzPct val="45000"/>
              <a:buFont typeface="Symbol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l -p -i -e 's/original text/replacement text/g' fi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0080"/>
              </a:buClr>
              <a:buSzPct val="45000"/>
              <a:buFont typeface="Symbol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arning: replaces in the original file! (i means in-plac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0080"/>
              </a:buClr>
              <a:buSzPct val="45000"/>
              <a:buFont typeface="Symbol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l -p -i.bak -e ... does same but saves backup as “file.bak”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0080"/>
              </a:buClr>
              <a:buSzPct val="45000"/>
              <a:buFont typeface="Symbol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l -p -e ... &gt; newfile.txt outputs to a new file without altering origin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0080"/>
              </a:buClr>
              <a:buSzPct val="45000"/>
              <a:buFont typeface="Symbol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p = while (&lt;&gt;) { ... # your script } continue { print or die "-p destination: $!\n";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0080"/>
              </a:buClr>
              <a:buSzPct val="45000"/>
              <a:buFont typeface="Symbol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ful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ww.softpanorama.org/Scripting/Perlorama/perl_in_command_line.shtm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2920" y="33660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Times New Roman"/>
              </a:rPr>
              <a:t>Working with CSV Files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80"/>
              </a:buClr>
              <a:buSzPct val="45000"/>
              <a:buFont typeface="Symbol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SV files = Comma-Separated Value text fi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80"/>
              </a:buClr>
              <a:buSzPct val="45000"/>
              <a:buFont typeface="Symbol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as delimit the values, w/ or w/o header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KU, Description, Pr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23, “Folding Chair with Cup Holder”, 10.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80"/>
              </a:buClr>
              <a:buSzPct val="45000"/>
              <a:buFont typeface="Symbol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y be tab-delimited inste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80"/>
              </a:buClr>
              <a:buSzPct val="45000"/>
              <a:buFont typeface="Symbol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on extensions: .csv and .tx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csv generally for comma-separated fi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txt generally for tab-delimited fi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02920" y="33660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Times New Roman"/>
              </a:rPr>
              <a:t>For More Information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80"/>
              </a:buClr>
              <a:buSzPct val="45000"/>
              <a:buFont typeface="Symbol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ldoc perlintro &amp; perlstyle – introduction &amp; sty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80"/>
              </a:buClr>
              <a:buSzPct val="45000"/>
              <a:buFont typeface="Symbol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ldoc perlsyn – synta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80"/>
              </a:buClr>
              <a:buSzPct val="45000"/>
              <a:buFont typeface="Symbol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ldoc perldata &amp; perlvar – data types &amp; vari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80"/>
              </a:buClr>
              <a:buSzPct val="45000"/>
              <a:buFont typeface="Symbol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ldoc perlop &amp; perlfunc – operators &amp; fun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80"/>
              </a:buClr>
              <a:buSzPct val="45000"/>
              <a:buFont typeface="Symbol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ldoc perlopentut – files &amp; I/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80"/>
              </a:buClr>
              <a:buSzPct val="45000"/>
              <a:buFont typeface="Symbol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ldoc perlrequick – regular expres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80"/>
              </a:buClr>
              <a:buSzPct val="45000"/>
              <a:buFont typeface="Symbol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ldoc perlsub – subrouti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80"/>
              </a:buClr>
              <a:buSzPct val="45000"/>
              <a:buFont typeface="Symbol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ldoc perlmod – modu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2920" y="33660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Times New Roman"/>
              </a:rPr>
              <a:t>Text::CSV in Perl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5445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4273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y $file = 'prospects.csv'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273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y $csv = Text::CSV-&gt;new(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273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en (my $fh, “&lt;”, $file) or die $!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273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ile (&lt;$fh&gt;)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273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($csv-&gt;parse($_))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273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y @columns = $csv-&gt;fields(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273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nt join(“|”,@columns) . “\n”; } 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273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ose $fh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0080"/>
              </a:buClr>
              <a:buSzPct val="45000"/>
              <a:buFont typeface="Symbol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: http://perlmeme.org/tutorials/parsing_csv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2920" y="33660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Times New Roman"/>
              </a:rPr>
              <a:t>Accessing Databases in Perl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537552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80"/>
              </a:buClr>
              <a:buSzPct val="45000"/>
              <a:buFont typeface="Symbol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: 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ttp://perlmeme.org/tutorials/connect_to_db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80"/>
              </a:buClr>
              <a:buSzPct val="45000"/>
              <a:buFont typeface="Symbol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so: perldoc DB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80"/>
              </a:buClr>
              <a:buSzPct val="45000"/>
              <a:buFont typeface="Symbol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 beginning of script: use DBI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80"/>
              </a:buClr>
              <a:buSzPct val="45000"/>
              <a:buFont typeface="Symbol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nect (for example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y $user = ""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y $password = ""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y $dbh = DBI-&gt;connect("DBI:$driver:$database", $user, $password, ) or die $DBI::errstr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2920" y="33660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Times New Roman"/>
              </a:rPr>
              <a:t>Simple SQL Statement Execution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80"/>
              </a:buClr>
              <a:buSzPct val="45000"/>
              <a:buFont typeface="Symbol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$dbh -&gt; do(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ERT INTO people_i_know(name, age, pet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LUES ('Carolyn',25,null)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'Steve',23,'cat')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'Melissa',24,'dog')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'Ritchie',24,'rabbit'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or die $dbh-&gt;errstr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2920" y="33660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Times New Roman"/>
              </a:rPr>
              <a:t>Better SQL Statement Execution</a:t>
            </a:r>
            <a:br>
              <a:rPr sz="4400"/>
            </a:br>
            <a:r>
              <a:rPr b="0" lang="en-US" sz="4400" spc="-1" strike="noStrike">
                <a:solidFill>
                  <a:srgbClr val="000080"/>
                </a:solidFill>
                <a:latin typeface="Times New Roman"/>
              </a:rPr>
              <a:t>Using Prepared Statement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80"/>
              </a:buClr>
              <a:buSzPct val="45000"/>
              <a:buFont typeface="Symbol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$sth = $dbh -&gt; prepare(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INTO people_i_know(name, age, pet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S (?, ?, ?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or die $dbh-&gt;errstr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$sth-&gt;execute('Carolyn',25,null) or die $dbh-&gt;errstr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$sth-&gt;execute('Steve',23,'cat') or die $dbh-&gt;errstr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$sth-&gt;execute('Melissa',24,'dog') or die $dbh-&gt;errstr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$sth-&gt;execute('Ritchie',24,'rabbit') or die $dbh-&gt;errstr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2920" y="33660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Times New Roman"/>
              </a:rPr>
              <a:t>SQL SELECT Statement</a:t>
            </a:r>
            <a:br>
              <a:rPr sz="4400"/>
            </a:br>
            <a:r>
              <a:rPr b="0" lang="en-US" sz="4400" spc="-1" strike="noStrike">
                <a:solidFill>
                  <a:srgbClr val="000080"/>
                </a:solidFill>
                <a:latin typeface="Times New Roman"/>
              </a:rPr>
              <a:t>Using Prepared Statement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80"/>
              </a:buClr>
              <a:buSzPct val="45000"/>
              <a:buFont typeface="Symbol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y $sth = $dbh-&gt;prepare("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LECT name, age, p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people_i_kn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age &gt;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") or die $dbh-&gt;errstr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80"/>
              </a:buClr>
              <a:buSzPct val="45000"/>
              <a:buFont typeface="Symbol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to fetch values? Read on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2920" y="33660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Times New Roman"/>
              </a:rPr>
              <a:t>Fetching Values (Preferred Method)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80"/>
              </a:buClr>
              <a:buSzPct val="45000"/>
              <a:buFont typeface="Symbol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$sth-&gt;execute(23) or die $dbh-&gt;errstr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le (my $hash_ref = $sth-&gt;fetchrow_hashref) 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nt $hash_ref-&gt;{name}, " is ", $hash_ref-&gt;{age}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" years old, and has a " , $hash_ref-&gt;{pet}, "\n"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2920" y="33660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Times New Roman"/>
              </a:rPr>
              <a:t>Conclusion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80"/>
              </a:buClr>
              <a:buSzPct val="45000"/>
              <a:buFont typeface="Symbol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l is a “Swiss Army Knife” of programming languag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80"/>
              </a:buClr>
              <a:buSzPct val="45000"/>
              <a:buFont typeface="Symbol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l is highly convenient for munging large fi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80"/>
              </a:buClr>
              <a:buSzPct val="45000"/>
              <a:buFont typeface="Symbol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l has many modules in CPAN (www.cpan.org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80"/>
              </a:buClr>
              <a:buSzPct val="45000"/>
              <a:buFont typeface="Symbol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l maxim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727280" indent="-573120">
              <a:lnSpc>
                <a:spcPct val="93000"/>
              </a:lnSpc>
              <a:spcAft>
                <a:spcPts val="1137"/>
              </a:spcAft>
              <a:buClr>
                <a:srgbClr val="00008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"There's more than one way to do it" (TMTOWTD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727280" indent="-573120">
              <a:lnSpc>
                <a:spcPct val="93000"/>
              </a:lnSpc>
              <a:spcAft>
                <a:spcPts val="1137"/>
              </a:spcAft>
              <a:buClr>
                <a:srgbClr val="00008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"Perl makes easy things easy and hard things possible."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02920" y="33660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Times New Roman"/>
              </a:rPr>
              <a:t>Exercise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80"/>
              </a:buClr>
              <a:buSzPct val="45000"/>
              <a:buFont typeface="Symbol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skeleton file exercise.pl and text file phone.csv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727280" indent="-573120">
              <a:lnSpc>
                <a:spcPct val="93000"/>
              </a:lnSpc>
              <a:spcAft>
                <a:spcPts val="1137"/>
              </a:spcAft>
              <a:buClr>
                <a:srgbClr val="00008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unt the number of phones manufactured by Ap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727280" indent="-573120">
              <a:lnSpc>
                <a:spcPct val="93000"/>
              </a:lnSpc>
              <a:spcAft>
                <a:spcPts val="1137"/>
              </a:spcAft>
              <a:buClr>
                <a:srgbClr val="00008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nge all instances of “iOS” to “iPhoneOS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727280" indent="-573120">
              <a:lnSpc>
                <a:spcPct val="93000"/>
              </a:lnSpc>
              <a:spcAft>
                <a:spcPts val="1137"/>
              </a:spcAft>
              <a:buClr>
                <a:srgbClr val="00008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rt list by manufacturer and print list of manuf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727280" indent="-573120">
              <a:lnSpc>
                <a:spcPct val="93000"/>
              </a:lnSpc>
              <a:spcAft>
                <a:spcPts val="1137"/>
              </a:spcAft>
              <a:buClr>
                <a:srgbClr val="00008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llenge: count number of different manufactur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72728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2920" y="33660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Times New Roman"/>
              </a:rPr>
              <a:t>Syntax &amp; Semantics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80"/>
              </a:buClr>
              <a:buSzPct val="45000"/>
              <a:buFont typeface="Symbol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l program heade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#!/usr/bin/per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stric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warnings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80"/>
              </a:buClr>
              <a:buSzPct val="45000"/>
              <a:buFont typeface="Symbol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tements end with a semicolon like 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80"/>
              </a:buClr>
              <a:buSzPct val="45000"/>
              <a:buFont typeface="Symbol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itespace ignored except in quoted string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80"/>
              </a:buClr>
              <a:buSzPct val="45000"/>
              <a:buFont typeface="Symbol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ings may be quoted with single or double quotes; single causes everything within to be printed as-i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33660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Times New Roman"/>
              </a:rPr>
              <a:t>Syntax &amp; Semantics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80"/>
              </a:buClr>
              <a:buSzPct val="45000"/>
              <a:buFont typeface="Symbol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like C, parentheses are generally optional in functions: print(“Hello\n”); same as print “Hello\n”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80"/>
              </a:buClr>
              <a:buSzPct val="45000"/>
              <a:buFont typeface="Symbol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” and “}” enclose blocks as in 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80"/>
              </a:buClr>
              <a:buSzPct val="45000"/>
              <a:buFont typeface="Symbol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rays are zero-indexed as in 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80"/>
              </a:buClr>
              <a:buSzPct val="45000"/>
              <a:buFont typeface="Symbol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ents: begin with “#” as in Bash shell scrip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80"/>
              </a:buClr>
              <a:buSzPct val="45000"/>
              <a:buFont typeface="Symbol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\n” = newline, “\t” = t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80"/>
              </a:buClr>
              <a:buSzPct val="45000"/>
              <a:buFont typeface="Symbol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, +, -, *, /, ==, !=, &lt;, &gt;, &lt;=, &gt;= work as expec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80"/>
              </a:buClr>
              <a:buSzPct val="45000"/>
              <a:buFont typeface="Symbol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amp;&amp;, ||, ! work as expec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33660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Times New Roman"/>
              </a:rPr>
              <a:t>String Comparisons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80"/>
              </a:buClr>
              <a:buSzPct val="45000"/>
              <a:buFont typeface="Symbol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ings are compared differentl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q” (equa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” (not equa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t” (less tha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t” (greater tha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” (less than or equa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” (greater than or equa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80"/>
              </a:buClr>
              <a:buSzPct val="45000"/>
              <a:buFont typeface="Symbol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.g.: if ($response eq “Y” || $response eq “y”) {...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2920" y="33660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Times New Roman"/>
              </a:rPr>
              <a:t>Data Types: Scalars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80"/>
              </a:buClr>
              <a:buSzPct val="45000"/>
              <a:buFont typeface="Symbol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alars = normal single-value variables OR str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80"/>
              </a:buClr>
              <a:buSzPct val="45000"/>
              <a:buFont typeface="Symbol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y $sum = 0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y $a = 1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$sum += $a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y $prompt = “\$”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nt $prompt.“\n”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2920" y="33660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Times New Roman"/>
              </a:rPr>
              <a:t>Data Types: Arrays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80"/>
              </a:buClr>
              <a:buSzPct val="45000"/>
              <a:buFont typeface="Symbol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rays = lists of values, may be mix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80"/>
              </a:buClr>
              <a:buSzPct val="45000"/>
              <a:buFont typeface="Symbol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y @animals = (“camel”, “llama”, “owl”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y @numbers = (23, 42, 69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y @mixed = (“camel”, 42, 1.23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nt $animals[1]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nt $animals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nt @animals[1..$#animals]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80"/>
              </a:buClr>
              <a:buSzPct val="45000"/>
              <a:buFont typeface="Symbol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y @sorted = sort @animals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2920" y="33660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Times New Roman"/>
              </a:rPr>
              <a:t>Data Types: Hashes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80"/>
              </a:buClr>
              <a:buSzPct val="45000"/>
              <a:buFont typeface="Symbol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y/value pai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80"/>
              </a:buClr>
              <a:buSzPct val="45000"/>
              <a:buFont typeface="Symbol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y %fruit_color = (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e =&gt; “red”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nana =&gt; “yellow”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nt $fruit_color{“apple”}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80"/>
              </a:buClr>
              <a:buSzPct val="45000"/>
              <a:buFont typeface="Symbol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ray of just keys: keys %fruit_col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ust values: values %fruit_color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2T20:33:47Z</dcterms:created>
  <dc:creator>user </dc:creator>
  <dc:description>Presentation Layout Template</dc:description>
  <dc:language>en-US</dc:language>
  <cp:lastModifiedBy>user </cp:lastModifiedBy>
  <dcterms:modified xsi:type="dcterms:W3CDTF">2012-03-13T01:14:02Z</dcterms:modified>
  <cp:revision>16</cp:revision>
  <dc:subject/>
  <dc:title>Blue and Red Gradient</dc:title>
</cp:coreProperties>
</file>